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00" spc="-1" strike="noStrike">
                <a:solidFill>
                  <a:srgbClr val="000000"/>
                </a:solidFill>
                <a:latin typeface="Arial"/>
              </a:defRPr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431872893596533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0967806438712258"/>
          <c:w val="0.959927410095922"/>
          <c:h val="0.88282343531293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0</c:v>
                </c:pt>
                <c:pt idx="2">
                  <c:v>21</c:v>
                </c:pt>
                <c:pt idx="3">
                  <c:v>2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8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38775510204082</c:v>
                </c:pt>
                <c:pt idx="1">
                  <c:v>3.51020408163265</c:v>
                </c:pt>
                <c:pt idx="2">
                  <c:v>9.6530612244898</c:v>
                </c:pt>
                <c:pt idx="3">
                  <c:v>8.77551020408163</c:v>
                </c:pt>
                <c:pt idx="4">
                  <c:v>4.38775510204082</c:v>
                </c:pt>
                <c:pt idx="5">
                  <c:v>4.38775510204082</c:v>
                </c:pt>
                <c:pt idx="6">
                  <c:v>1.75510204081633</c:v>
                </c:pt>
                <c:pt idx="7">
                  <c:v>4.3877551020408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877551020408163</c:v>
                </c:pt>
                <c:pt idx="15">
                  <c:v>0.877551020408163</c:v>
                </c:pt>
              </c:numCache>
            </c:numRef>
          </c:val>
        </c:ser>
        <c:gapWidth val="100"/>
        <c:overlap val="0"/>
        <c:axId val="44723578"/>
        <c:axId val="80578424"/>
      </c:barChart>
      <c:catAx>
        <c:axId val="447235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78424"/>
        <c:crossesAt val="0"/>
        <c:auto val="1"/>
        <c:lblAlgn val="ctr"/>
        <c:lblOffset val="100"/>
        <c:noMultiLvlLbl val="0"/>
      </c:catAx>
      <c:valAx>
        <c:axId val="80578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2357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285" spc="-1" strike="noStrike">
                <a:solidFill>
                  <a:srgbClr val="000000"/>
                </a:solidFill>
                <a:latin typeface="Arial"/>
              </a:defRPr>
            </a:pPr>
            <a:r>
              <a:rPr b="1" sz="1285" spc="-1" strike="noStrike">
                <a:solidFill>
                  <a:srgbClr val="000000"/>
                </a:solidFill>
                <a:latin typeface="Arial"/>
              </a:rPr>
              <a:t>NOTURNO EEDMM</a:t>
            </a:r>
          </a:p>
        </c:rich>
      </c:tx>
      <c:layout>
        <c:manualLayout>
          <c:xMode val="edge"/>
          <c:yMode val="edge"/>
          <c:x val="0.404318358579312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160767846430714"/>
          <c:w val="0.959927410095922"/>
          <c:h val="0.8186362727454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2</c:v>
                </c:pt>
                <c:pt idx="2">
                  <c:v>1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2</c:v>
                </c:pt>
                <c:pt idx="7">
                  <c:v>0</c:v>
                </c:pt>
                <c:pt idx="8">
                  <c:v>4</c:v>
                </c:pt>
                <c:pt idx="9">
                  <c:v>1</c:v>
                </c:pt>
                <c:pt idx="10">
                  <c:v>1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4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64227642276423</c:v>
                </c:pt>
                <c:pt idx="1">
                  <c:v>3.64227642276423</c:v>
                </c:pt>
                <c:pt idx="2">
                  <c:v>10.9268292682927</c:v>
                </c:pt>
                <c:pt idx="3">
                  <c:v>9.36585365853658</c:v>
                </c:pt>
                <c:pt idx="4">
                  <c:v>6.76422764227642</c:v>
                </c:pt>
                <c:pt idx="5">
                  <c:v>6.76422764227642</c:v>
                </c:pt>
                <c:pt idx="6">
                  <c:v>5.72357723577236</c:v>
                </c:pt>
                <c:pt idx="7">
                  <c:v>4.68292682926829</c:v>
                </c:pt>
                <c:pt idx="8">
                  <c:v>2.08130081300813</c:v>
                </c:pt>
                <c:pt idx="9">
                  <c:v>2.60162601626016</c:v>
                </c:pt>
                <c:pt idx="10">
                  <c:v>2.60162601626016</c:v>
                </c:pt>
                <c:pt idx="11">
                  <c:v>2.08130081300813</c:v>
                </c:pt>
                <c:pt idx="12">
                  <c:v>1.5609756097561</c:v>
                </c:pt>
                <c:pt idx="13">
                  <c:v>0.520325203252032</c:v>
                </c:pt>
                <c:pt idx="14">
                  <c:v>1.04065040650406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6960523"/>
        <c:axId val="17239104"/>
      </c:barChart>
      <c:catAx>
        <c:axId val="5696052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39104"/>
        <c:crossesAt val="0"/>
        <c:auto val="1"/>
        <c:lblAlgn val="ctr"/>
        <c:lblOffset val="100"/>
        <c:noMultiLvlLbl val="0"/>
      </c:catAx>
      <c:valAx>
        <c:axId val="17239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6052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NOTURNO EEDMM</a:t>
            </a:r>
          </a:p>
        </c:rich>
      </c:tx>
      <c:layout>
        <c:manualLayout>
          <c:xMode val="edge"/>
          <c:yMode val="edge"/>
          <c:x val="0.393691459035208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18551701159"/>
          <c:y val="0.209116353458617"/>
          <c:w val="0.959942245751731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8</c:v>
                </c:pt>
                <c:pt idx="3">
                  <c:v>9</c:v>
                </c:pt>
                <c:pt idx="4">
                  <c:v>0</c:v>
                </c:pt>
                <c:pt idx="5">
                  <c:v>0</c:v>
                </c:pt>
                <c:pt idx="6">
                  <c:v>13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3</c:v>
                </c:pt>
                <c:pt idx="12">
                  <c:v>0</c:v>
                </c:pt>
                <c:pt idx="13">
                  <c:v>0</c:v>
                </c:pt>
                <c:pt idx="14">
                  <c:v>4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95934959349594</c:v>
                </c:pt>
                <c:pt idx="1">
                  <c:v>2.95934959349594</c:v>
                </c:pt>
                <c:pt idx="2">
                  <c:v>8.87804878048781</c:v>
                </c:pt>
                <c:pt idx="3">
                  <c:v>7.60975609756098</c:v>
                </c:pt>
                <c:pt idx="4">
                  <c:v>5.49593495934959</c:v>
                </c:pt>
                <c:pt idx="5">
                  <c:v>5.49593495934959</c:v>
                </c:pt>
                <c:pt idx="6">
                  <c:v>4.65040650406504</c:v>
                </c:pt>
                <c:pt idx="7">
                  <c:v>3.80487804878049</c:v>
                </c:pt>
                <c:pt idx="8">
                  <c:v>1.69105691056911</c:v>
                </c:pt>
                <c:pt idx="9">
                  <c:v>2.11382113821138</c:v>
                </c:pt>
                <c:pt idx="10">
                  <c:v>2.11382113821138</c:v>
                </c:pt>
                <c:pt idx="11">
                  <c:v>1.69105691056911</c:v>
                </c:pt>
                <c:pt idx="12">
                  <c:v>1.26829268292683</c:v>
                </c:pt>
                <c:pt idx="13">
                  <c:v>0.422764227642276</c:v>
                </c:pt>
                <c:pt idx="14">
                  <c:v>0.845528455284553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1198799"/>
        <c:axId val="13399065"/>
      </c:barChart>
      <c:catAx>
        <c:axId val="6119879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9065"/>
        <c:crossesAt val="0"/>
        <c:auto val="1"/>
        <c:lblAlgn val="ctr"/>
        <c:lblOffset val="100"/>
        <c:noMultiLvlLbl val="0"/>
      </c:catAx>
      <c:valAx>
        <c:axId val="13399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9879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071" spc="-1" strike="noStrike">
                <a:solidFill>
                  <a:srgbClr val="000000"/>
                </a:solidFill>
                <a:latin typeface="Arial"/>
              </a:defRPr>
            </a:pPr>
            <a:r>
              <a:rPr b="1" sz="1071" spc="-1" strike="noStrike">
                <a:solidFill>
                  <a:srgbClr val="000000"/>
                </a:solidFill>
                <a:latin typeface="Arial"/>
              </a:rPr>
              <a:t>NOTURNO EEDMM</a:t>
            </a:r>
          </a:p>
        </c:rich>
      </c:tx>
      <c:layout>
        <c:manualLayout>
          <c:xMode val="edge"/>
          <c:yMode val="edge"/>
          <c:x val="0.404382027465446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0854893138358"/>
          <c:w val="0.959957335229545"/>
          <c:h val="0.81852268466441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47</c:v>
                </c:pt>
                <c:pt idx="3">
                  <c:v>6</c:v>
                </c:pt>
                <c:pt idx="4">
                  <c:v>0</c:v>
                </c:pt>
                <c:pt idx="5">
                  <c:v>0</c:v>
                </c:pt>
                <c:pt idx="6">
                  <c:v>8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4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38211382113821</c:v>
                </c:pt>
                <c:pt idx="1">
                  <c:v>4.38211382113821</c:v>
                </c:pt>
                <c:pt idx="2">
                  <c:v>13.1463414634146</c:v>
                </c:pt>
                <c:pt idx="3">
                  <c:v>11.2682926829268</c:v>
                </c:pt>
                <c:pt idx="4">
                  <c:v>8.13821138211382</c:v>
                </c:pt>
                <c:pt idx="5">
                  <c:v>8.13821138211382</c:v>
                </c:pt>
                <c:pt idx="6">
                  <c:v>6.88617886178862</c:v>
                </c:pt>
                <c:pt idx="7">
                  <c:v>5.63414634146342</c:v>
                </c:pt>
                <c:pt idx="8">
                  <c:v>2.50406504065041</c:v>
                </c:pt>
                <c:pt idx="9">
                  <c:v>3.13008130081301</c:v>
                </c:pt>
                <c:pt idx="10">
                  <c:v>3.13008130081301</c:v>
                </c:pt>
                <c:pt idx="11">
                  <c:v>2.50406504065041</c:v>
                </c:pt>
                <c:pt idx="12">
                  <c:v>1.87804878048781</c:v>
                </c:pt>
                <c:pt idx="13">
                  <c:v>0.626016260162602</c:v>
                </c:pt>
                <c:pt idx="14">
                  <c:v>1.2520325203252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2543951"/>
        <c:axId val="50588380"/>
      </c:barChart>
      <c:catAx>
        <c:axId val="7254395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88380"/>
        <c:crossesAt val="0"/>
        <c:auto val="1"/>
        <c:lblAlgn val="ctr"/>
        <c:lblOffset val="100"/>
        <c:noMultiLvlLbl val="0"/>
      </c:catAx>
      <c:valAx>
        <c:axId val="50588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4395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285" spc="-1" strike="noStrike">
                <a:solidFill>
                  <a:srgbClr val="000000"/>
                </a:solidFill>
                <a:latin typeface="Arial"/>
              </a:defRPr>
            </a:pPr>
            <a:r>
              <a:rPr b="1" sz="1285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350394429835932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160767846430714"/>
          <c:w val="0.959927410095922"/>
          <c:h val="0.8186362727454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5</c:v>
                </c:pt>
                <c:pt idx="2">
                  <c:v>6</c:v>
                </c:pt>
                <c:pt idx="3">
                  <c:v>2</c:v>
                </c:pt>
                <c:pt idx="4">
                  <c:v>0</c:v>
                </c:pt>
                <c:pt idx="5">
                  <c:v>0</c:v>
                </c:pt>
                <c:pt idx="6">
                  <c:v>4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81632653061224</c:v>
                </c:pt>
                <c:pt idx="1">
                  <c:v>4.6530612244898</c:v>
                </c:pt>
                <c:pt idx="2">
                  <c:v>12.7959183673469</c:v>
                </c:pt>
                <c:pt idx="3">
                  <c:v>11.6326530612245</c:v>
                </c:pt>
                <c:pt idx="4">
                  <c:v>5.81632653061224</c:v>
                </c:pt>
                <c:pt idx="5">
                  <c:v>5.81632653061224</c:v>
                </c:pt>
                <c:pt idx="6">
                  <c:v>2.3265306122449</c:v>
                </c:pt>
                <c:pt idx="7">
                  <c:v>5.8163265306122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16326530612245</c:v>
                </c:pt>
                <c:pt idx="15">
                  <c:v>1.16326530612245</c:v>
                </c:pt>
              </c:numCache>
            </c:numRef>
          </c:val>
        </c:ser>
        <c:gapWidth val="100"/>
        <c:overlap val="0"/>
        <c:axId val="60737300"/>
        <c:axId val="33604390"/>
      </c:barChart>
      <c:catAx>
        <c:axId val="607373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04390"/>
        <c:crossesAt val="0"/>
        <c:auto val="1"/>
        <c:lblAlgn val="ctr"/>
        <c:lblOffset val="100"/>
        <c:noMultiLvlLbl val="0"/>
      </c:catAx>
      <c:valAx>
        <c:axId val="33604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3730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333098852276935"/>
          <c:y val="0.0200040008001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55720103665"/>
          <c:y val="0.209241848369674"/>
          <c:w val="0.959903739355794"/>
          <c:h val="0.7707541508301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9</c:v>
                </c:pt>
                <c:pt idx="1">
                  <c:v>3</c:v>
                </c:pt>
                <c:pt idx="2">
                  <c:v>8</c:v>
                </c:pt>
                <c:pt idx="3">
                  <c:v>3</c:v>
                </c:pt>
                <c:pt idx="4">
                  <c:v>1</c:v>
                </c:pt>
                <c:pt idx="5">
                  <c:v>8</c:v>
                </c:pt>
                <c:pt idx="6">
                  <c:v>14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10204081632653</c:v>
                </c:pt>
                <c:pt idx="1">
                  <c:v>4.08163265306122</c:v>
                </c:pt>
                <c:pt idx="2">
                  <c:v>11.2244897959184</c:v>
                </c:pt>
                <c:pt idx="3">
                  <c:v>10.2040816326531</c:v>
                </c:pt>
                <c:pt idx="4">
                  <c:v>5.10204081632653</c:v>
                </c:pt>
                <c:pt idx="5">
                  <c:v>5.10204081632653</c:v>
                </c:pt>
                <c:pt idx="6">
                  <c:v>2.04081632653061</c:v>
                </c:pt>
                <c:pt idx="7">
                  <c:v>5.1020408163265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2040816326531</c:v>
                </c:pt>
                <c:pt idx="15">
                  <c:v>1.02040816326531</c:v>
                </c:pt>
              </c:numCache>
            </c:numRef>
          </c:val>
        </c:ser>
        <c:gapWidth val="100"/>
        <c:overlap val="0"/>
        <c:axId val="89815245"/>
        <c:axId val="23731451"/>
      </c:barChart>
      <c:catAx>
        <c:axId val="8981524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31451"/>
        <c:crossesAt val="0"/>
        <c:auto val="1"/>
        <c:lblAlgn val="ctr"/>
        <c:lblOffset val="100"/>
        <c:noMultiLvlLbl val="0"/>
      </c:catAx>
      <c:valAx>
        <c:axId val="23731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1524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071" spc="-1" strike="noStrike">
                <a:solidFill>
                  <a:srgbClr val="000000"/>
                </a:solidFill>
                <a:latin typeface="Arial"/>
              </a:defRPr>
            </a:pPr>
            <a:r>
              <a:rPr b="1" sz="1071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350606639704902"/>
          <c:y val="0.020397280362618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0911878416211"/>
          <c:w val="0.959957335229545"/>
          <c:h val="0.81855752566324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44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2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83673469387755</c:v>
                </c:pt>
                <c:pt idx="1">
                  <c:v>5.46938775510204</c:v>
                </c:pt>
                <c:pt idx="2">
                  <c:v>15.0408163265306</c:v>
                </c:pt>
                <c:pt idx="3">
                  <c:v>13.6734693877551</c:v>
                </c:pt>
                <c:pt idx="4">
                  <c:v>6.83673469387755</c:v>
                </c:pt>
                <c:pt idx="5">
                  <c:v>6.83673469387755</c:v>
                </c:pt>
                <c:pt idx="6">
                  <c:v>2.73469387755102</c:v>
                </c:pt>
                <c:pt idx="7">
                  <c:v>6.8367346938775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6734693877551</c:v>
                </c:pt>
                <c:pt idx="15">
                  <c:v>1.36734693877551</c:v>
                </c:pt>
              </c:numCache>
            </c:numRef>
          </c:val>
        </c:ser>
        <c:gapWidth val="100"/>
        <c:overlap val="0"/>
        <c:axId val="808382"/>
        <c:axId val="85449300"/>
      </c:barChart>
      <c:catAx>
        <c:axId val="80838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49300"/>
        <c:crossesAt val="0"/>
        <c:auto val="1"/>
        <c:lblAlgn val="ctr"/>
        <c:lblOffset val="100"/>
        <c:noMultiLvlLbl val="0"/>
      </c:catAx>
      <c:valAx>
        <c:axId val="85449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38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00" spc="-1" strike="noStrike">
                <a:solidFill>
                  <a:srgbClr val="000000"/>
                </a:solidFill>
                <a:latin typeface="Arial"/>
              </a:defRPr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ERIODO VESPERTINO EEDMM</a:t>
            </a:r>
          </a:p>
        </c:rich>
      </c:tx>
      <c:layout>
        <c:manualLayout>
          <c:xMode val="edge"/>
          <c:yMode val="edge"/>
          <c:x val="0.426650864782786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096380723855229"/>
          <c:w val="0.959927410095922"/>
          <c:h val="0.88322335532893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4</c:v>
                </c:pt>
                <c:pt idx="7">
                  <c:v>0</c:v>
                </c:pt>
                <c:pt idx="8">
                  <c:v>0</c:v>
                </c:pt>
                <c:pt idx="9">
                  <c:v>3</c:v>
                </c:pt>
                <c:pt idx="10">
                  <c:v>1</c:v>
                </c:pt>
                <c:pt idx="11">
                  <c:v>3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62295081967213</c:v>
                </c:pt>
                <c:pt idx="1">
                  <c:v>1.26229508196721</c:v>
                </c:pt>
                <c:pt idx="2">
                  <c:v>3.78688524590164</c:v>
                </c:pt>
                <c:pt idx="3">
                  <c:v>3.78688524590164</c:v>
                </c:pt>
                <c:pt idx="4">
                  <c:v>1.80327868852459</c:v>
                </c:pt>
                <c:pt idx="5">
                  <c:v>1.80327868852459</c:v>
                </c:pt>
                <c:pt idx="6">
                  <c:v>1.08196721311475</c:v>
                </c:pt>
                <c:pt idx="7">
                  <c:v>0.721311475409836</c:v>
                </c:pt>
                <c:pt idx="8">
                  <c:v>1.08196721311475</c:v>
                </c:pt>
                <c:pt idx="9">
                  <c:v>1.44262295081967</c:v>
                </c:pt>
                <c:pt idx="10">
                  <c:v>1.26229508196721</c:v>
                </c:pt>
                <c:pt idx="11">
                  <c:v>1.08196721311475</c:v>
                </c:pt>
                <c:pt idx="12">
                  <c:v>0.540983606557377</c:v>
                </c:pt>
                <c:pt idx="13">
                  <c:v>0.360655737704918</c:v>
                </c:pt>
                <c:pt idx="14">
                  <c:v>0</c:v>
                </c:pt>
                <c:pt idx="15">
                  <c:v>0.360655737704918</c:v>
                </c:pt>
              </c:numCache>
            </c:numRef>
          </c:val>
        </c:ser>
        <c:gapWidth val="100"/>
        <c:overlap val="0"/>
        <c:axId val="91352221"/>
        <c:axId val="38380661"/>
      </c:barChart>
      <c:catAx>
        <c:axId val="9135222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80661"/>
        <c:crossesAt val="0"/>
        <c:auto val="1"/>
        <c:lblAlgn val="ctr"/>
        <c:lblOffset val="100"/>
        <c:noMultiLvlLbl val="0"/>
      </c:catAx>
      <c:valAx>
        <c:axId val="38380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5222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286" spc="-1" strike="noStrike">
                <a:solidFill>
                  <a:srgbClr val="000000"/>
                </a:solidFill>
                <a:latin typeface="Arial"/>
              </a:defRPr>
            </a:pPr>
            <a:r>
              <a:rPr b="1" sz="1286" spc="-1" strike="noStrike">
                <a:solidFill>
                  <a:srgbClr val="000000"/>
                </a:solidFill>
                <a:latin typeface="Arial"/>
              </a:rPr>
              <a:t>VESPERTINO EEDMM</a:t>
            </a:r>
          </a:p>
        </c:rich>
      </c:tx>
      <c:layout>
        <c:manualLayout>
          <c:xMode val="edge"/>
          <c:yMode val="edge"/>
          <c:x val="0.389948520425169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160567886422715"/>
          <c:w val="0.959927410095922"/>
          <c:h val="0.81883623275344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2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65573770491803</c:v>
                </c:pt>
                <c:pt idx="1">
                  <c:v>2.0655737704918</c:v>
                </c:pt>
                <c:pt idx="2">
                  <c:v>6.19672131147541</c:v>
                </c:pt>
                <c:pt idx="3">
                  <c:v>6.19672131147541</c:v>
                </c:pt>
                <c:pt idx="4">
                  <c:v>2.95081967213115</c:v>
                </c:pt>
                <c:pt idx="5">
                  <c:v>2.95081967213115</c:v>
                </c:pt>
                <c:pt idx="6">
                  <c:v>1.77049180327869</c:v>
                </c:pt>
                <c:pt idx="7">
                  <c:v>1.18032786885246</c:v>
                </c:pt>
                <c:pt idx="8">
                  <c:v>1.77049180327869</c:v>
                </c:pt>
                <c:pt idx="9">
                  <c:v>2.36065573770492</c:v>
                </c:pt>
                <c:pt idx="10">
                  <c:v>2.0655737704918</c:v>
                </c:pt>
                <c:pt idx="11">
                  <c:v>1.77049180327869</c:v>
                </c:pt>
                <c:pt idx="12">
                  <c:v>0.885245901639344</c:v>
                </c:pt>
                <c:pt idx="13">
                  <c:v>0.59016393442623</c:v>
                </c:pt>
                <c:pt idx="14">
                  <c:v>0</c:v>
                </c:pt>
                <c:pt idx="15">
                  <c:v>0.59016393442623</c:v>
                </c:pt>
              </c:numCache>
            </c:numRef>
          </c:val>
        </c:ser>
        <c:gapWidth val="100"/>
        <c:overlap val="0"/>
        <c:axId val="49210425"/>
        <c:axId val="42553936"/>
      </c:barChart>
      <c:catAx>
        <c:axId val="4921042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53936"/>
        <c:crossesAt val="0"/>
        <c:auto val="1"/>
        <c:lblAlgn val="ctr"/>
        <c:lblOffset val="100"/>
        <c:noMultiLvlLbl val="0"/>
      </c:catAx>
      <c:valAx>
        <c:axId val="42553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1042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SPERTINO EEDMM</a:t>
            </a:r>
          </a:p>
        </c:rich>
      </c:tx>
      <c:layout>
        <c:manualLayout>
          <c:xMode val="edge"/>
          <c:yMode val="edge"/>
          <c:x val="0.377045538689374"/>
          <c:y val="0.0200040008001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55720103665"/>
          <c:y val="0.209241848369674"/>
          <c:w val="0.959903739355794"/>
          <c:h val="0.7707541508301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50819672131148</c:v>
                </c:pt>
                <c:pt idx="1">
                  <c:v>1.95081967213115</c:v>
                </c:pt>
                <c:pt idx="2">
                  <c:v>5.85245901639344</c:v>
                </c:pt>
                <c:pt idx="3">
                  <c:v>5.85245901639344</c:v>
                </c:pt>
                <c:pt idx="4">
                  <c:v>2.78688524590164</c:v>
                </c:pt>
                <c:pt idx="5">
                  <c:v>2.78688524590164</c:v>
                </c:pt>
                <c:pt idx="6">
                  <c:v>1.67213114754098</c:v>
                </c:pt>
                <c:pt idx="7">
                  <c:v>1.11475409836066</c:v>
                </c:pt>
                <c:pt idx="8">
                  <c:v>1.67213114754098</c:v>
                </c:pt>
                <c:pt idx="9">
                  <c:v>2.22950819672131</c:v>
                </c:pt>
                <c:pt idx="10">
                  <c:v>1.95081967213115</c:v>
                </c:pt>
                <c:pt idx="11">
                  <c:v>1.67213114754098</c:v>
                </c:pt>
                <c:pt idx="12">
                  <c:v>0.836065573770492</c:v>
                </c:pt>
                <c:pt idx="13">
                  <c:v>0.557377049180328</c:v>
                </c:pt>
                <c:pt idx="14">
                  <c:v>0</c:v>
                </c:pt>
                <c:pt idx="15">
                  <c:v>0.557377049180328</c:v>
                </c:pt>
              </c:numCache>
            </c:numRef>
          </c:val>
        </c:ser>
        <c:gapWidth val="100"/>
        <c:overlap val="0"/>
        <c:axId val="96288601"/>
        <c:axId val="4653234"/>
      </c:barChart>
      <c:catAx>
        <c:axId val="9628860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3234"/>
        <c:crossesAt val="0"/>
        <c:auto val="1"/>
        <c:lblAlgn val="ctr"/>
        <c:lblOffset val="100"/>
        <c:noMultiLvlLbl val="0"/>
      </c:catAx>
      <c:valAx>
        <c:axId val="4653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8860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071" spc="-1" strike="noStrike">
                <a:solidFill>
                  <a:srgbClr val="000000"/>
                </a:solidFill>
                <a:latin typeface="Arial"/>
              </a:defRPr>
            </a:pPr>
            <a:r>
              <a:rPr b="1" sz="1071" spc="-1" strike="noStrike">
                <a:solidFill>
                  <a:srgbClr val="000000"/>
                </a:solidFill>
                <a:latin typeface="Arial"/>
              </a:rPr>
              <a:t>VESPERTINO EEDMM</a:t>
            </a:r>
          </a:p>
        </c:rich>
      </c:tx>
      <c:layout>
        <c:manualLayout>
          <c:xMode val="edge"/>
          <c:yMode val="edge"/>
          <c:x val="0.39007155237545"/>
          <c:y val="0.020397280362618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064524730036"/>
          <c:w val="0.959957335229545"/>
          <c:h val="0.81895747233702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2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1</c:v>
                </c:pt>
                <c:pt idx="10">
                  <c:v>0</c:v>
                </c:pt>
                <c:pt idx="11">
                  <c:v>8</c:v>
                </c:pt>
                <c:pt idx="12">
                  <c:v>0</c:v>
                </c:pt>
                <c:pt idx="13">
                  <c:v>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29268292682927</c:v>
                </c:pt>
                <c:pt idx="1">
                  <c:v>2.5609756097561</c:v>
                </c:pt>
                <c:pt idx="2">
                  <c:v>7.68292682926829</c:v>
                </c:pt>
                <c:pt idx="3">
                  <c:v>7.68292682926829</c:v>
                </c:pt>
                <c:pt idx="4">
                  <c:v>3.65853658536585</c:v>
                </c:pt>
                <c:pt idx="5">
                  <c:v>3.65853658536585</c:v>
                </c:pt>
                <c:pt idx="6">
                  <c:v>2.19512195121951</c:v>
                </c:pt>
                <c:pt idx="7">
                  <c:v>1.46341463414634</c:v>
                </c:pt>
                <c:pt idx="8">
                  <c:v>2.19512195121951</c:v>
                </c:pt>
                <c:pt idx="9">
                  <c:v>2.92682926829268</c:v>
                </c:pt>
                <c:pt idx="10">
                  <c:v>2.5609756097561</c:v>
                </c:pt>
                <c:pt idx="11">
                  <c:v>2.19512195121951</c:v>
                </c:pt>
                <c:pt idx="12">
                  <c:v>1.09756097560976</c:v>
                </c:pt>
                <c:pt idx="13">
                  <c:v>1.09756097560976</c:v>
                </c:pt>
                <c:pt idx="14">
                  <c:v>0</c:v>
                </c:pt>
                <c:pt idx="15">
                  <c:v>0.731707317073171</c:v>
                </c:pt>
              </c:numCache>
            </c:numRef>
          </c:val>
        </c:ser>
        <c:gapWidth val="100"/>
        <c:overlap val="0"/>
        <c:axId val="93232153"/>
        <c:axId val="6689902"/>
      </c:barChart>
      <c:catAx>
        <c:axId val="9323215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9902"/>
        <c:crossesAt val="0"/>
        <c:auto val="1"/>
        <c:lblAlgn val="ctr"/>
        <c:lblOffset val="100"/>
        <c:noMultiLvlLbl val="0"/>
      </c:catAx>
      <c:valAx>
        <c:axId val="6689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3215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00" spc="-1" strike="noStrike">
                <a:solidFill>
                  <a:srgbClr val="000000"/>
                </a:solidFill>
                <a:latin typeface="Arial"/>
              </a:defRPr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ERIODO NOTURNO EEDMM</a:t>
            </a:r>
          </a:p>
        </c:rich>
      </c:tx>
      <c:layout>
        <c:manualLayout>
          <c:xMode val="edge"/>
          <c:yMode val="edge"/>
          <c:x val="0.432169178919299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0967806438712258"/>
          <c:w val="0.959927410095922"/>
          <c:h val="0.88262347530493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6</c:v>
                </c:pt>
                <c:pt idx="2">
                  <c:v>14</c:v>
                </c:pt>
                <c:pt idx="3">
                  <c:v>1</c:v>
                </c:pt>
                <c:pt idx="4">
                  <c:v>4</c:v>
                </c:pt>
                <c:pt idx="5">
                  <c:v>0</c:v>
                </c:pt>
                <c:pt idx="6">
                  <c:v>2</c:v>
                </c:pt>
                <c:pt idx="7">
                  <c:v>3</c:v>
                </c:pt>
                <c:pt idx="8">
                  <c:v>1</c:v>
                </c:pt>
                <c:pt idx="9">
                  <c:v>2</c:v>
                </c:pt>
                <c:pt idx="10">
                  <c:v>2</c:v>
                </c:pt>
                <c:pt idx="11">
                  <c:v>2</c:v>
                </c:pt>
                <c:pt idx="12">
                  <c:v>2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44715447154472</c:v>
                </c:pt>
                <c:pt idx="1">
                  <c:v>2.44715447154472</c:v>
                </c:pt>
                <c:pt idx="2">
                  <c:v>7.34146341463415</c:v>
                </c:pt>
                <c:pt idx="3">
                  <c:v>6.29268292682927</c:v>
                </c:pt>
                <c:pt idx="4">
                  <c:v>4.54471544715447</c:v>
                </c:pt>
                <c:pt idx="5">
                  <c:v>4.54471544715447</c:v>
                </c:pt>
                <c:pt idx="6">
                  <c:v>3.84552845528455</c:v>
                </c:pt>
                <c:pt idx="7">
                  <c:v>3.14634146341463</c:v>
                </c:pt>
                <c:pt idx="8">
                  <c:v>1.39837398373984</c:v>
                </c:pt>
                <c:pt idx="9">
                  <c:v>1.7479674796748</c:v>
                </c:pt>
                <c:pt idx="10">
                  <c:v>1.7479674796748</c:v>
                </c:pt>
                <c:pt idx="11">
                  <c:v>1.39837398373984</c:v>
                </c:pt>
                <c:pt idx="12">
                  <c:v>1.04878048780488</c:v>
                </c:pt>
                <c:pt idx="13">
                  <c:v>0.349593495934959</c:v>
                </c:pt>
                <c:pt idx="14">
                  <c:v>0.699186991869919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2701921"/>
        <c:axId val="30441218"/>
      </c:barChart>
      <c:catAx>
        <c:axId val="7270192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41218"/>
        <c:crossesAt val="0"/>
        <c:auto val="1"/>
        <c:lblAlgn val="ctr"/>
        <c:lblOffset val="100"/>
        <c:noMultiLvlLbl val="0"/>
      </c:catAx>
      <c:valAx>
        <c:axId val="30441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0192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4BA-9FCE-4D91-B74C-000FC953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EE8-F483-4F55-8BF8-CE82FF7E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69F-07E6-4F65-B444-CFE11F6A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A67-1F9A-492D-946C-EBDEF2B3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6FA-13B9-43C8-9737-9038418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72D-4B68-4B66-A425-05FFE8D6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8C6-8CA6-4973-B985-31AD648A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9A6-A2D0-4879-BBCA-110CCDCC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0E6-9F1B-4842-A994-DE72743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76A-1045-429B-B4FE-30A3F75F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88D-223A-454E-9857-02A2572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57E-3087-45CC-ACBE-C2FAE31B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636444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36444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E39F-05FC-424B-9F57-92298222F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Estat&#237;stica de uso\Diagn&#243;stico - Dr Martinho Marques\Matutino - Ivanete\Relat&#243;rio de Frequ&#234;ncia - Matutino - Alterado - 28-07.doc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5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6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7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8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Estat&#237;stica de uso\Diagn&#243;stico - Dr Martinho Marques\Vespertino - Sirlei\Relat&#243;rio de Frequ&#234;ncia - Sirlei.doc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9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0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Estat&#237;stica de uso\Diagn&#243;stico - Dr Martinho Marques\Noturno - Cida\Relat&#243;rio de Frequ&#234;ncia de uso - Cida - Alterado.doc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ronograma 1&#186; semestre - 2009.doc" TargetMode="External"/><Relationship Id="rId3" Type="http://schemas.openxmlformats.org/officeDocument/2006/relationships/hyperlink" Target="http://drmartinhomarques.wikispaces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1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2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3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4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213920"/>
            <a:ext cx="745164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 DR MARTINHO MAR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QUARUSSU - 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68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TÓRIO DE FREQUÊNCIA NA STE - MATU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ORA SIR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6572160" y="464328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123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500880" y="47149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CaixaDeTexto 4"/>
          <p:cNvSpPr/>
          <p:nvPr/>
        </p:nvSpPr>
        <p:spPr>
          <a:xfrm>
            <a:off x="1571760" y="4572000"/>
            <a:ext cx="235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6500880" y="464328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36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aixaDeTexto 4"/>
          <p:cNvSpPr/>
          <p:nvPr/>
        </p:nvSpPr>
        <p:spPr>
          <a:xfrm>
            <a:off x="1643040" y="442908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6572160" y="450072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143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763640" y="4508640"/>
          <a:ext cx="476424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3640" y="450864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TÓRIO DE FREQUÊNCIA NA STE - VESPER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TURN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ÇO – ABRIL – MAIO -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ORA APARECIDA CRIVEL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250920" y="1557360"/>
          <a:ext cx="8099280" cy="284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879640" y="4680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964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4" descr=""/>
          <p:cNvPicPr/>
          <p:nvPr/>
        </p:nvPicPr>
        <p:blipFill>
          <a:blip r:embed="rId5"/>
          <a:stretch/>
        </p:blipFill>
        <p:spPr>
          <a:xfrm>
            <a:off x="6804000" y="501336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9640" y="1657440"/>
          <a:ext cx="8099640" cy="284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4" descr=""/>
          <p:cNvPicPr/>
          <p:nvPr/>
        </p:nvPicPr>
        <p:blipFill>
          <a:blip r:embed="rId5"/>
          <a:stretch/>
        </p:blipFill>
        <p:spPr>
          <a:xfrm>
            <a:off x="6804000" y="50846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as ações que foram desenvolvidas pe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ores multiplicadores (NTE – STE) no 1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estre e a página da escol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, analisar e refletir a respeito do uso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 da escola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cronograma de ações do 2º semestr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entar na elaboração do cronograma de ações 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ores da STE no 2º semestre para form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loco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657440"/>
          <a:ext cx="809964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Picture 4" descr=""/>
          <p:cNvPicPr/>
          <p:nvPr/>
        </p:nvPicPr>
        <p:blipFill>
          <a:blip r:embed="rId5"/>
          <a:stretch/>
        </p:blipFill>
        <p:spPr>
          <a:xfrm>
            <a:off x="6948360" y="515772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173160"/>
            <a:ext cx="82184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340000" y="4500720"/>
          <a:ext cx="476424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50072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Picture 4" descr=""/>
          <p:cNvPicPr/>
          <p:nvPr/>
        </p:nvPicPr>
        <p:blipFill>
          <a:blip r:embed="rId5"/>
          <a:stretch/>
        </p:blipFill>
        <p:spPr>
          <a:xfrm>
            <a:off x="7164360" y="50846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vantamento de uso dos Professores –Noturn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TÓRIO DE FREQUÊNCIA NA STE - NOTU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ixaDeTexto 4"/>
          <p:cNvSpPr/>
          <p:nvPr/>
        </p:nvSpPr>
        <p:spPr>
          <a:xfrm>
            <a:off x="1476360" y="3068640"/>
            <a:ext cx="460836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o que apresentou menos us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SPER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GUNS PONTOS PARA REFLETIR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R ATENTAS ÀS DATAS PREVISTAS PARA TÉRMINO DAS ATIV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BÉNS PELO COMPROMISSO ASSUMIDO JUNTO À ESCO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IRO PARA O 2º SEMESTRE ATENÇÃO ESPECIAL AO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ORES AUSEN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 STE NO 1º SE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FLEXÃO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Papa João XXII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700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ágina da Es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170028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ÇO–ABRIL–MAIO-JUN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ESSORA IVAN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6500880" y="45007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91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557360"/>
          <a:ext cx="80992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332000" y="4653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4653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6429240" y="464328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97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9280" y="1628640"/>
          <a:ext cx="809964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619280" y="4581360"/>
          <a:ext cx="3811680" cy="1449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4581360"/>
                    <a:ext cx="381168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CaixaDeTexto 4"/>
          <p:cNvSpPr/>
          <p:nvPr/>
        </p:nvSpPr>
        <p:spPr>
          <a:xfrm>
            <a:off x="1214280" y="478620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6500880" y="457200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04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8000" y="1773360"/>
          <a:ext cx="8099280" cy="284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68360" y="4653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4653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aixaDeTexto 4"/>
          <p:cNvSpPr/>
          <p:nvPr/>
        </p:nvSpPr>
        <p:spPr>
          <a:xfrm>
            <a:off x="1500120" y="4500720"/>
            <a:ext cx="30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6429240" y="464328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111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8000" y="1628640"/>
          <a:ext cx="809928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476360" y="4437000"/>
          <a:ext cx="476424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443700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1:26:23Z</dcterms:created>
  <dc:creator>Luciana Catarino</dc:creator>
  <dc:description/>
  <dc:language>en-US</dc:language>
  <cp:lastModifiedBy>SEDMS</cp:lastModifiedBy>
  <dcterms:modified xsi:type="dcterms:W3CDTF">2009-07-28T19:26:57Z</dcterms:modified>
  <cp:revision>26</cp:revision>
  <dc:subject/>
  <dc:title>EE PADRE ANCHIETA NOVA ANDRADINA - MS</dc:title>
</cp:coreProperties>
</file>